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50.wmf" ContentType="image/x-wmf"/>
  <Override PartName="/ppt/media/image1.jpeg" ContentType="image/jpeg"/>
  <Override PartName="/ppt/media/image3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.jpeg" ContentType="image/jpeg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63.png" ContentType="image/png"/>
  <Override PartName="/ppt/media/image20.wmf" ContentType="image/x-wmf"/>
  <Override PartName="/ppt/media/image25.wmf" ContentType="image/x-wmf"/>
  <Override PartName="/ppt/media/image62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3.4 - </a:t>
            </a:r>
            <a:fld id="{E5BBD602-5C39-4EE9-B63D-8C8259068B26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2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ving Radical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sol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radical equation we must first isolate the radical on one side of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apply the Principle of P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radical equation has two radical terms on one side, we isolate one of them and then use the principle of powers. If, after doing so, a radical terms remains, we repeat these st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52480" y="1371600"/>
          <a:ext cx="17398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71600"/>
                    <a:ext cx="17398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686160" y="222408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38080" y="2863800"/>
          <a:ext cx="221004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863800"/>
                    <a:ext cx="22100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498680" y="3854520"/>
          <a:ext cx="154944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8680" y="3854520"/>
                    <a:ext cx="1549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962000" y="4572000"/>
          <a:ext cx="109224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2000" y="4572000"/>
                    <a:ext cx="10922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5105520" y="220968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5867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 is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18440" y="519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181480" y="3048120"/>
            <a:ext cx="2210040" cy="2666880"/>
            <a:chOff x="5181480" y="3048120"/>
            <a:chExt cx="2210040" cy="2666880"/>
          </a:xfrm>
        </p:grpSpPr>
        <p:grpSp>
          <p:nvGrpSpPr>
            <p:cNvPr id="194" name=""/>
            <p:cNvGrpSpPr/>
            <p:nvPr/>
          </p:nvGrpSpPr>
          <p:grpSpPr>
            <a:xfrm>
              <a:off x="5181480" y="3581280"/>
              <a:ext cx="2210040" cy="2133720"/>
              <a:chOff x="5181480" y="3581280"/>
              <a:chExt cx="2210040" cy="2133720"/>
            </a:xfrm>
          </p:grpSpPr>
          <p:sp>
            <p:nvSpPr>
              <p:cNvPr id="195" name=""/>
              <p:cNvSpPr/>
              <p:nvPr/>
            </p:nvSpPr>
            <p:spPr>
              <a:xfrm>
                <a:off x="5181480" y="3581280"/>
                <a:ext cx="221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29400" y="3581280"/>
                <a:ext cx="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9400" y="4267080"/>
                <a:ext cx="0" cy="144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98" name=""/>
            <p:cNvGraphicFramePr/>
            <p:nvPr/>
          </p:nvGraphicFramePr>
          <p:xfrm>
            <a:off x="5321160" y="3048120"/>
            <a:ext cx="1689120" cy="444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21160" y="3048120"/>
                      <a:ext cx="168912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0" name=""/>
          <p:cNvGraphicFramePr/>
          <p:nvPr/>
        </p:nvGraphicFramePr>
        <p:xfrm>
          <a:off x="4952880" y="3619440"/>
          <a:ext cx="2311560" cy="49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3619440"/>
                    <a:ext cx="23115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181480" y="4191120"/>
          <a:ext cx="1092240" cy="44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4191120"/>
                    <a:ext cx="10922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638680" y="4724280"/>
          <a:ext cx="635040" cy="4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38680" y="4724280"/>
                    <a:ext cx="6350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070680" y="5334120"/>
          <a:ext cx="111744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70680" y="5334120"/>
                    <a:ext cx="1117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133720" y="5181480"/>
          <a:ext cx="774720" cy="304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33720" y="5181480"/>
                    <a:ext cx="7747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905120" y="1143000"/>
          <a:ext cx="218412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143000"/>
                    <a:ext cx="2184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" y="18288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rst, isolate the radical on one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654280" y="2387520"/>
          <a:ext cx="207000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54280" y="2387520"/>
                    <a:ext cx="20700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286000" y="2908440"/>
          <a:ext cx="2844720" cy="67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908440"/>
                    <a:ext cx="284472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965320" y="3657600"/>
          <a:ext cx="298476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65320" y="3657600"/>
                    <a:ext cx="29847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537000" y="4254480"/>
          <a:ext cx="24130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37000" y="4254480"/>
                    <a:ext cx="24130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537000" y="4807080"/>
          <a:ext cx="25146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37000" y="4807080"/>
                    <a:ext cx="2514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003480" y="5403960"/>
          <a:ext cx="35305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03480" y="5403960"/>
                    <a:ext cx="35305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11440" y="6000840"/>
          <a:ext cx="2502000" cy="29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11440" y="6000840"/>
                    <a:ext cx="25020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ssible solutions are 9 and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440" y="5790960"/>
            <a:ext cx="8002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9 checks but 2 does not, the only solution is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905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476424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035000" y="3733920"/>
          <a:ext cx="115560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3733920"/>
                    <a:ext cx="11556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460520" y="4336920"/>
          <a:ext cx="74916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0520" y="4336920"/>
                    <a:ext cx="7491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968480" y="4876920"/>
          <a:ext cx="10922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68480" y="4876920"/>
                    <a:ext cx="1092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457200" y="2616120"/>
            <a:ext cx="2743200" cy="2641680"/>
            <a:chOff x="457200" y="2616120"/>
            <a:chExt cx="2743200" cy="2641680"/>
          </a:xfrm>
        </p:grpSpPr>
        <p:grpSp>
          <p:nvGrpSpPr>
            <p:cNvPr id="241" name=""/>
            <p:cNvGrpSpPr/>
            <p:nvPr/>
          </p:nvGrpSpPr>
          <p:grpSpPr>
            <a:xfrm>
              <a:off x="457200" y="3124080"/>
              <a:ext cx="2743200" cy="2133720"/>
              <a:chOff x="457200" y="3124080"/>
              <a:chExt cx="2743200" cy="2133720"/>
            </a:xfrm>
          </p:grpSpPr>
          <p:sp>
            <p:nvSpPr>
              <p:cNvPr id="242" name=""/>
              <p:cNvSpPr/>
              <p:nvPr/>
            </p:nvSpPr>
            <p:spPr>
              <a:xfrm>
                <a:off x="457200" y="3124080"/>
                <a:ext cx="2743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14600" y="3124080"/>
                <a:ext cx="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14600" y="3809880"/>
                <a:ext cx="0" cy="144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45" name=""/>
            <p:cNvGraphicFramePr/>
            <p:nvPr/>
          </p:nvGraphicFramePr>
          <p:xfrm>
            <a:off x="895320" y="2616120"/>
            <a:ext cx="2070000" cy="444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95320" y="2616120"/>
                      <a:ext cx="20700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7" name=""/>
          <p:cNvGraphicFramePr/>
          <p:nvPr/>
        </p:nvGraphicFramePr>
        <p:xfrm>
          <a:off x="609480" y="3162240"/>
          <a:ext cx="252756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3162240"/>
                    <a:ext cx="25275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7570440" y="4726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497560" y="3708360"/>
          <a:ext cx="10033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97560" y="3708360"/>
                    <a:ext cx="10033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776920" y="4343400"/>
          <a:ext cx="72396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76920" y="4343400"/>
                    <a:ext cx="723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335640" y="4851360"/>
          <a:ext cx="109224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35640" y="4851360"/>
                    <a:ext cx="1092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6" name=""/>
          <p:cNvGrpSpPr/>
          <p:nvPr/>
        </p:nvGrpSpPr>
        <p:grpSpPr>
          <a:xfrm>
            <a:off x="4824360" y="2590920"/>
            <a:ext cx="2743200" cy="2640960"/>
            <a:chOff x="4824360" y="2590920"/>
            <a:chExt cx="2743200" cy="2640960"/>
          </a:xfrm>
        </p:grpSpPr>
        <p:grpSp>
          <p:nvGrpSpPr>
            <p:cNvPr id="257" name=""/>
            <p:cNvGrpSpPr/>
            <p:nvPr/>
          </p:nvGrpSpPr>
          <p:grpSpPr>
            <a:xfrm>
              <a:off x="4824360" y="3098880"/>
              <a:ext cx="2743200" cy="2133000"/>
              <a:chOff x="4824360" y="3098880"/>
              <a:chExt cx="2743200" cy="2133000"/>
            </a:xfrm>
          </p:grpSpPr>
          <p:sp>
            <p:nvSpPr>
              <p:cNvPr id="258" name=""/>
              <p:cNvSpPr/>
              <p:nvPr/>
            </p:nvSpPr>
            <p:spPr>
              <a:xfrm>
                <a:off x="4824360" y="3098880"/>
                <a:ext cx="2743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81760" y="30988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881760" y="37843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61" name=""/>
            <p:cNvGraphicFramePr/>
            <p:nvPr/>
          </p:nvGraphicFramePr>
          <p:xfrm>
            <a:off x="5262480" y="2590920"/>
            <a:ext cx="2070360" cy="444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262480" y="2590920"/>
                      <a:ext cx="207036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3" name=""/>
          <p:cNvGraphicFramePr/>
          <p:nvPr/>
        </p:nvGraphicFramePr>
        <p:xfrm>
          <a:off x="4976640" y="3137040"/>
          <a:ext cx="2527560" cy="495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76640" y="3137040"/>
                    <a:ext cx="252756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4748040" y="187956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955880" y="1066680"/>
          <a:ext cx="28447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066680"/>
                    <a:ext cx="2844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685800" y="18288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479760" y="1905120"/>
          <a:ext cx="284472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9760" y="1905120"/>
                    <a:ext cx="28447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086280" y="2438280"/>
          <a:ext cx="361944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6280" y="2438280"/>
                    <a:ext cx="36194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759120" y="3137040"/>
          <a:ext cx="393696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59120" y="3137040"/>
                    <a:ext cx="39369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746520" y="3657600"/>
          <a:ext cx="341640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6520" y="3657600"/>
                    <a:ext cx="3416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860640" y="4191120"/>
          <a:ext cx="2311560" cy="44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60640" y="4191120"/>
                    <a:ext cx="23115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267080" y="4724280"/>
          <a:ext cx="153684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4724280"/>
                    <a:ext cx="1536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114800" y="5181480"/>
          <a:ext cx="2070000" cy="67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5181480"/>
                    <a:ext cx="2070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4267080" y="5867280"/>
          <a:ext cx="1282680" cy="30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67080" y="5867280"/>
                    <a:ext cx="12826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4254480" y="6337440"/>
          <a:ext cx="787320" cy="291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54480" y="6337440"/>
                    <a:ext cx="787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ossible solution, 4, on a graphing calcul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440" y="5715000"/>
            <a:ext cx="8002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, the number 4 checks. It is the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40040" y="1828800"/>
            <a:ext cx="5262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3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Quadratic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Functions and Eq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u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t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o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ns;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nequalitie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5146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lex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dratic Equations, Functions, Zeros, an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ing Graphs of Quadrat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ing Rational Equations and Radical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Equations and Inequalities with Absolut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3.4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ving Rational Equations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d Radical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3123720"/>
            <a:ext cx="74674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rational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radical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tional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488960"/>
            <a:ext cx="7696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tions containing rational expressions are called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ational equ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such equations requires multiplying both sides by the least common denominator (LCD)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ear the equation of f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1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362320" y="1371600"/>
          <a:ext cx="25272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371600"/>
                    <a:ext cx="2527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905120" y="2895480"/>
          <a:ext cx="3365280" cy="92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895480"/>
                    <a:ext cx="336528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739880" y="4051440"/>
          <a:ext cx="313704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39880" y="4051440"/>
                    <a:ext cx="31370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663560" y="5194440"/>
          <a:ext cx="321336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63560" y="5194440"/>
                    <a:ext cx="3213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057400" y="6032520"/>
          <a:ext cx="283212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6032520"/>
                    <a:ext cx="28321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311880" y="4267080"/>
          <a:ext cx="165096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11880" y="4267080"/>
                    <a:ext cx="1650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010280" y="5029200"/>
          <a:ext cx="1143000" cy="30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10280" y="5029200"/>
                    <a:ext cx="11430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7188120" y="5791320"/>
          <a:ext cx="774720" cy="30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188120" y="5791320"/>
                    <a:ext cx="7747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990720" y="228600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both sides by the LCD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963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ssible solution is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403440" y="3886200"/>
          <a:ext cx="10162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3440" y="3886200"/>
                    <a:ext cx="10162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809880" y="4997520"/>
          <a:ext cx="13590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997520"/>
                    <a:ext cx="1359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781360" y="6095880"/>
            <a:ext cx="293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 is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7360" y="5384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574640" y="1600200"/>
            <a:ext cx="4140360" cy="4343400"/>
            <a:chOff x="1574640" y="1600200"/>
            <a:chExt cx="4140360" cy="4343400"/>
          </a:xfrm>
        </p:grpSpPr>
        <p:sp>
          <p:nvSpPr>
            <p:cNvPr id="121" name=""/>
            <p:cNvSpPr/>
            <p:nvPr/>
          </p:nvSpPr>
          <p:spPr>
            <a:xfrm>
              <a:off x="1574640" y="1752480"/>
              <a:ext cx="1371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33ff"/>
                  </a:solidFill>
                  <a:latin typeface="Times New Roman"/>
                </a:rPr>
                <a:t>Check</a:t>
              </a:r>
              <a:r>
                <a:rPr b="0" lang="en-US" sz="2800" spc="-1" strike="noStrike">
                  <a:solidFill>
                    <a:srgbClr val="3333ff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819520" y="2590920"/>
              <a:ext cx="2895480" cy="3352680"/>
              <a:chOff x="2819520" y="2590920"/>
              <a:chExt cx="2895480" cy="3352680"/>
            </a:xfrm>
          </p:grpSpPr>
          <p:sp>
            <p:nvSpPr>
              <p:cNvPr id="123" name=""/>
              <p:cNvSpPr/>
              <p:nvPr/>
            </p:nvSpPr>
            <p:spPr>
              <a:xfrm>
                <a:off x="2819520" y="2590920"/>
                <a:ext cx="2895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800600" y="259092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00600" y="3581280"/>
                <a:ext cx="0" cy="236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26" name=""/>
            <p:cNvGraphicFramePr/>
            <p:nvPr/>
          </p:nvGraphicFramePr>
          <p:xfrm>
            <a:off x="2819520" y="1600200"/>
            <a:ext cx="2412720" cy="838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19520" y="1600200"/>
                      <a:ext cx="241272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8" name=""/>
          <p:cNvGraphicFramePr/>
          <p:nvPr/>
        </p:nvGraphicFramePr>
        <p:xfrm>
          <a:off x="2552760" y="2895480"/>
          <a:ext cx="285732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2760" y="2895480"/>
                    <a:ext cx="28573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444920" y="5486400"/>
          <a:ext cx="73656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44920" y="5486400"/>
                    <a:ext cx="7365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488600"/>
            <a:ext cx="6781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47840" y="1295280"/>
          <a:ext cx="201924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7840" y="1295280"/>
                    <a:ext cx="201924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914400" y="2708280"/>
            <a:ext cx="76960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ultiply both sides by the LC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387520" y="3429000"/>
          <a:ext cx="41022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7520" y="3429000"/>
                    <a:ext cx="41022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911760" y="4673520"/>
          <a:ext cx="92700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11760" y="4673520"/>
                    <a:ext cx="9270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124080" y="5575320"/>
          <a:ext cx="2667240" cy="2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5575320"/>
                    <a:ext cx="2667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6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98800" y="1904760"/>
            <a:ext cx="396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20" y="1244520"/>
            <a:ext cx="52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ssible solutions are –3 and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638680"/>
            <a:ext cx="35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checks, so it is a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33880" y="464832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143000" y="2476440"/>
            <a:ext cx="2209680" cy="2857680"/>
            <a:chOff x="1143000" y="2476440"/>
            <a:chExt cx="2209680" cy="2857680"/>
          </a:xfrm>
        </p:grpSpPr>
        <p:grpSp>
          <p:nvGrpSpPr>
            <p:cNvPr id="150" name=""/>
            <p:cNvGrpSpPr/>
            <p:nvPr/>
          </p:nvGrpSpPr>
          <p:grpSpPr>
            <a:xfrm>
              <a:off x="1143000" y="3505320"/>
              <a:ext cx="2209680" cy="1828800"/>
              <a:chOff x="1143000" y="3505320"/>
              <a:chExt cx="2209680" cy="1828800"/>
            </a:xfrm>
          </p:grpSpPr>
          <p:sp>
            <p:nvSpPr>
              <p:cNvPr id="151" name=""/>
              <p:cNvSpPr/>
              <p:nvPr/>
            </p:nvSpPr>
            <p:spPr>
              <a:xfrm>
                <a:off x="1143000" y="350532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09680" y="35053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09680" y="4495680"/>
                <a:ext cx="0" cy="83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54" name=""/>
            <p:cNvGraphicFramePr/>
            <p:nvPr/>
          </p:nvGraphicFramePr>
          <p:xfrm>
            <a:off x="1219320" y="2476440"/>
            <a:ext cx="1942920" cy="876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2476440"/>
                      <a:ext cx="194292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6" name=""/>
          <p:cNvGraphicFramePr/>
          <p:nvPr/>
        </p:nvGraphicFramePr>
        <p:xfrm>
          <a:off x="876240" y="3505320"/>
          <a:ext cx="2730600" cy="92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6240" y="3505320"/>
                    <a:ext cx="273060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371600" y="4495680"/>
          <a:ext cx="165096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495680"/>
                    <a:ext cx="16509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800600" y="5638680"/>
            <a:ext cx="427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sion by 0 is not defined, so 3 is not a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12440" y="461016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105520" y="2438280"/>
            <a:ext cx="2209680" cy="2857680"/>
            <a:chOff x="5105520" y="2438280"/>
            <a:chExt cx="2209680" cy="2857680"/>
          </a:xfrm>
        </p:grpSpPr>
        <p:grpSp>
          <p:nvGrpSpPr>
            <p:cNvPr id="163" name=""/>
            <p:cNvGrpSpPr/>
            <p:nvPr/>
          </p:nvGrpSpPr>
          <p:grpSpPr>
            <a:xfrm>
              <a:off x="5105520" y="3467160"/>
              <a:ext cx="2209680" cy="1828800"/>
              <a:chOff x="5105520" y="3467160"/>
              <a:chExt cx="2209680" cy="1828800"/>
            </a:xfrm>
          </p:grpSpPr>
          <p:sp>
            <p:nvSpPr>
              <p:cNvPr id="164" name=""/>
              <p:cNvSpPr/>
              <p:nvPr/>
            </p:nvSpPr>
            <p:spPr>
              <a:xfrm>
                <a:off x="5105520" y="346716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172200" y="346716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72200" y="4457880"/>
                <a:ext cx="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67" name=""/>
            <p:cNvGraphicFramePr/>
            <p:nvPr/>
          </p:nvGraphicFramePr>
          <p:xfrm>
            <a:off x="5181480" y="2438280"/>
            <a:ext cx="1943280" cy="87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1480" y="2438280"/>
                      <a:ext cx="1943280" cy="8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9" name=""/>
          <p:cNvGraphicFramePr/>
          <p:nvPr/>
        </p:nvGraphicFramePr>
        <p:xfrm>
          <a:off x="5022720" y="3492360"/>
          <a:ext cx="2362320" cy="92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2720" y="3492360"/>
                    <a:ext cx="23623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537160" y="4495680"/>
          <a:ext cx="1270080" cy="8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37160" y="4495680"/>
                    <a:ext cx="12700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Radical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adical equ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equation in which variables appear in one or more radicands.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inciple of P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positive integ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rue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67200" y="2679840"/>
          <a:ext cx="297180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7200" y="2679840"/>
                    <a:ext cx="29718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Cathy Lovingier</cp:lastModifiedBy>
  <dcterms:modified xsi:type="dcterms:W3CDTF">2008-04-17T15:25:21Z</dcterms:modified>
  <cp:revision>244</cp:revision>
  <dc:subject/>
  <dc:title>No Slide Title</dc:title>
</cp:coreProperties>
</file>